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E7F-8F3E-47B4-9823-457920A6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015-4B48-4FE1-A9A4-D4980DE8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272-7D54-4BE0-8BDE-9AD7283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BAD-C290-4A78-9B89-1305FD9B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27F-7A01-4907-B4E4-CB1B9A87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C7B-845A-480E-8BED-5E6012E1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257-B47C-4BA6-B8C8-F72ABB66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F5B-C89A-4AF6-AACC-1DB1A15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4B1-D83B-46AA-A448-B0061A1F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34F-58C0-4D9C-BB98-4A19934C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B0B-283A-41DF-9900-FD4064F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7AF-95CA-4DC8-AC39-2E56716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12DA-B34F-460B-AD73-E7E48DC38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9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0" y="1143000"/>
          <a:ext cx="4876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87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1828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1828800"/>
            <a:ext cx="510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ll nonnegative nu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86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28600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Times New Roman"/>
              </a:rPr>
              <a:t>all numbers greater than or equal to </a:t>
            </a:r>
            <a:r>
              <a:rPr b="1" i="1" lang="en-US" sz="3000" spc="-1" strike="noStrike">
                <a:solidFill>
                  <a:srgbClr val="0099cc"/>
                </a:solidFill>
                <a:latin typeface="Times New Roman"/>
              </a:rPr>
              <a:t>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2819520"/>
          <a:ext cx="296712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19520"/>
                    <a:ext cx="29671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8862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4191120"/>
            <a:ext cx="3200400" cy="2361960"/>
            <a:chOff x="380880" y="4191120"/>
            <a:chExt cx="3200400" cy="2361960"/>
          </a:xfrm>
        </p:grpSpPr>
        <p:sp>
          <p:nvSpPr>
            <p:cNvPr id="54" name=""/>
            <p:cNvSpPr/>
            <p:nvPr/>
          </p:nvSpPr>
          <p:spPr>
            <a:xfrm>
              <a:off x="380880" y="5181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5638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880" y="6095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880" y="6553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4724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5000" y="4343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9920" y="41911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44200" y="41911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905120" y="3429000"/>
          <a:ext cx="11682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429000"/>
                    <a:ext cx="1168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05120" y="3886200"/>
          <a:ext cx="112716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886200"/>
                    <a:ext cx="11271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80880" y="4648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1055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562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0199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14400" y="4724280"/>
          <a:ext cx="1790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7242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590920" y="4800600"/>
          <a:ext cx="546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8006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46080" y="5181480"/>
          <a:ext cx="172728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46080" y="5181480"/>
                    <a:ext cx="1727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77960" y="5257800"/>
          <a:ext cx="573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77960" y="52578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14400" y="5638680"/>
          <a:ext cx="17906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6386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90920" y="5715000"/>
          <a:ext cx="546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90920" y="57150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14400" y="6095880"/>
          <a:ext cx="179064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6095880"/>
                    <a:ext cx="1790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577960" y="6172200"/>
          <a:ext cx="573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617220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4648320" y="3505320"/>
            <a:ext cx="2743200" cy="2743200"/>
            <a:chOff x="4648320" y="3505320"/>
            <a:chExt cx="2743200" cy="2743200"/>
          </a:xfrm>
        </p:grpSpPr>
        <p:grpSp>
          <p:nvGrpSpPr>
            <p:cNvPr id="87" name=""/>
            <p:cNvGrpSpPr/>
            <p:nvPr/>
          </p:nvGrpSpPr>
          <p:grpSpPr>
            <a:xfrm>
              <a:off x="4648320" y="3505320"/>
              <a:ext cx="2743200" cy="2743200"/>
              <a:chOff x="4648320" y="3505320"/>
              <a:chExt cx="2743200" cy="2743200"/>
            </a:xfrm>
          </p:grpSpPr>
          <p:sp>
            <p:nvSpPr>
              <p:cNvPr id="88" name=""/>
              <p:cNvSpPr/>
              <p:nvPr/>
            </p:nvSpPr>
            <p:spPr>
              <a:xfrm>
                <a:off x="4648320" y="6248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5943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4832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648320" y="5334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48320" y="50292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4832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48320" y="44197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48320" y="41148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4832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48320" y="3505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6483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32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81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27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76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25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71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20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869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15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3276720"/>
            <a:ext cx="3200400" cy="3200400"/>
            <a:chOff x="4419720" y="3276720"/>
            <a:chExt cx="3200400" cy="3200400"/>
          </a:xfrm>
        </p:grpSpPr>
        <p:sp>
          <p:nvSpPr>
            <p:cNvPr id="109" name=""/>
            <p:cNvSpPr/>
            <p:nvPr/>
          </p:nvSpPr>
          <p:spPr>
            <a:xfrm flipV="1">
              <a:off x="4952880" y="32767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5943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76920" y="556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9528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3434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7339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1" idx="7"/>
          </p:cNvCxnSpPr>
          <p:nvPr/>
        </p:nvCxnSpPr>
        <p:spPr>
          <a:xfrm flipV="1">
            <a:off x="5006880" y="3656880"/>
            <a:ext cx="4137840" cy="1928520"/>
          </a:xfrm>
          <a:prstGeom prst="curvedConnector3">
            <a:avLst>
              <a:gd name="adj1" fmla="val 25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0" y="1143000"/>
          <a:ext cx="4876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87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28600" y="2209680"/>
          <a:ext cx="30495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09680"/>
                    <a:ext cx="30495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04920" y="2971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0880" y="3962520"/>
            <a:ext cx="3200400" cy="2361960"/>
            <a:chOff x="380880" y="3962520"/>
            <a:chExt cx="3200400" cy="2361960"/>
          </a:xfrm>
        </p:grpSpPr>
        <p:sp>
          <p:nvSpPr>
            <p:cNvPr id="125" name=""/>
            <p:cNvSpPr/>
            <p:nvPr/>
          </p:nvSpPr>
          <p:spPr>
            <a:xfrm>
              <a:off x="380880" y="4952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5410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5867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80" y="6324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4495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000" y="4114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9920" y="39625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4200" y="39625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1905120" y="2971800"/>
          <a:ext cx="11682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971800"/>
                    <a:ext cx="1168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28800" y="3429000"/>
          <a:ext cx="141912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3429000"/>
                    <a:ext cx="14191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0880" y="4419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8769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3341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5791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14400" y="4495680"/>
          <a:ext cx="1790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956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590920" y="4572000"/>
          <a:ext cx="7556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4572000"/>
                    <a:ext cx="755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46080" y="4952880"/>
          <a:ext cx="172728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46080" y="4952880"/>
                    <a:ext cx="1727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590920" y="502920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0292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914400" y="5410080"/>
          <a:ext cx="17906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541008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577960" y="548640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4864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914400" y="5867280"/>
          <a:ext cx="179064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5867280"/>
                    <a:ext cx="1790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5943600"/>
          <a:ext cx="546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5943600"/>
                    <a:ext cx="546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"/>
          <p:cNvGrpSpPr/>
          <p:nvPr/>
        </p:nvGrpSpPr>
        <p:grpSpPr>
          <a:xfrm>
            <a:off x="4648320" y="3048120"/>
            <a:ext cx="2743200" cy="2743200"/>
            <a:chOff x="4648320" y="3048120"/>
            <a:chExt cx="2743200" cy="2743200"/>
          </a:xfrm>
        </p:grpSpPr>
        <p:grpSp>
          <p:nvGrpSpPr>
            <p:cNvPr id="158" name=""/>
            <p:cNvGrpSpPr/>
            <p:nvPr/>
          </p:nvGrpSpPr>
          <p:grpSpPr>
            <a:xfrm>
              <a:off x="4648320" y="3048120"/>
              <a:ext cx="2743200" cy="2743200"/>
              <a:chOff x="4648320" y="3048120"/>
              <a:chExt cx="2743200" cy="2743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648320" y="5791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8320" y="54864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5181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48320" y="48769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48320" y="45720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42670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48320" y="3962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648320" y="3657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8320" y="3352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8320" y="3048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6483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32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81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676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20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9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15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419720" y="2819520"/>
            <a:ext cx="3200400" cy="3200400"/>
            <a:chOff x="4419720" y="2819520"/>
            <a:chExt cx="3200400" cy="3200400"/>
          </a:xfrm>
        </p:grpSpPr>
        <p:sp>
          <p:nvSpPr>
            <p:cNvPr id="180" name=""/>
            <p:cNvSpPr/>
            <p:nvPr/>
          </p:nvSpPr>
          <p:spPr>
            <a:xfrm flipV="1">
              <a:off x="4952880" y="2819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48769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76920" y="51055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4956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7"/>
          </p:cNvCxnSpPr>
          <p:nvPr/>
        </p:nvCxnSpPr>
        <p:spPr>
          <a:xfrm flipH="1" flipV="1" rot="5400000">
            <a:off x="6111720" y="2094840"/>
            <a:ext cx="1927800" cy="413784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0" y="1143000"/>
          <a:ext cx="4876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876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208080" y="2209680"/>
          <a:ext cx="309060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080" y="2209680"/>
                    <a:ext cx="30906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04920" y="2971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80880" y="3962520"/>
            <a:ext cx="3200400" cy="2361960"/>
            <a:chOff x="380880" y="3962520"/>
            <a:chExt cx="3200400" cy="2361960"/>
          </a:xfrm>
        </p:grpSpPr>
        <p:sp>
          <p:nvSpPr>
            <p:cNvPr id="196" name=""/>
            <p:cNvSpPr/>
            <p:nvPr/>
          </p:nvSpPr>
          <p:spPr>
            <a:xfrm>
              <a:off x="380880" y="4952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880" y="5410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880" y="5867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6324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4495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5000" y="41148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9920" y="39625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44200" y="39625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4" name=""/>
          <p:cNvGraphicFramePr/>
          <p:nvPr/>
        </p:nvGraphicFramePr>
        <p:xfrm>
          <a:off x="1905120" y="2971800"/>
          <a:ext cx="11682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971800"/>
                    <a:ext cx="1168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808280" y="3429000"/>
          <a:ext cx="146052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8280" y="3429000"/>
                    <a:ext cx="1460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80880" y="4419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8769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3341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791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85960" y="4495680"/>
          <a:ext cx="184788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5960" y="449568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666880" y="4572000"/>
          <a:ext cx="789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572000"/>
                    <a:ext cx="789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14400" y="4952880"/>
          <a:ext cx="179244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" y="4952880"/>
                    <a:ext cx="1792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66880" y="5029200"/>
          <a:ext cx="573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50292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85960" y="5410080"/>
          <a:ext cx="184788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85960" y="541008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666880" y="548640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54864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885960" y="5867280"/>
          <a:ext cx="184788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85960" y="5867280"/>
                    <a:ext cx="1847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666880" y="5943600"/>
          <a:ext cx="573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594360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4648320" y="3048120"/>
            <a:ext cx="2743200" cy="2743200"/>
            <a:chOff x="4648320" y="3048120"/>
            <a:chExt cx="2743200" cy="2743200"/>
          </a:xfrm>
        </p:grpSpPr>
        <p:grpSp>
          <p:nvGrpSpPr>
            <p:cNvPr id="229" name=""/>
            <p:cNvGrpSpPr/>
            <p:nvPr/>
          </p:nvGrpSpPr>
          <p:grpSpPr>
            <a:xfrm>
              <a:off x="4648320" y="3048120"/>
              <a:ext cx="2743200" cy="2743200"/>
              <a:chOff x="4648320" y="3048120"/>
              <a:chExt cx="2743200" cy="2743200"/>
            </a:xfrm>
          </p:grpSpPr>
          <p:sp>
            <p:nvSpPr>
              <p:cNvPr id="230" name=""/>
              <p:cNvSpPr/>
              <p:nvPr/>
            </p:nvSpPr>
            <p:spPr>
              <a:xfrm>
                <a:off x="4648320" y="5791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648320" y="54864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48320" y="5181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48769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648320" y="45720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8320" y="42670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48320" y="3962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648320" y="3657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3352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48320" y="3048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6483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532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81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27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676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25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71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204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8696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91520" y="30481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419720" y="2819520"/>
            <a:ext cx="3200400" cy="3200400"/>
            <a:chOff x="4419720" y="2819520"/>
            <a:chExt cx="3200400" cy="3200400"/>
          </a:xfrm>
        </p:grpSpPr>
        <p:sp>
          <p:nvSpPr>
            <p:cNvPr id="251" name=""/>
            <p:cNvSpPr/>
            <p:nvPr/>
          </p:nvSpPr>
          <p:spPr>
            <a:xfrm flipV="1">
              <a:off x="4952880" y="28195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45720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876920" y="51055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4956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3276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3" idx="7"/>
          </p:cNvCxnSpPr>
          <p:nvPr/>
        </p:nvCxnSpPr>
        <p:spPr>
          <a:xfrm flipH="1" flipV="1" rot="5400000">
            <a:off x="6111720" y="2094840"/>
            <a:ext cx="1927800" cy="413784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438280" y="1143000"/>
          <a:ext cx="45720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4572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8600" y="18288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286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228600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cc"/>
                </a:solidFill>
                <a:latin typeface="Times New Roman"/>
              </a:rPr>
              <a:t>all nonnegative numb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12840" y="2819520"/>
          <a:ext cx="27972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2819520"/>
                    <a:ext cx="27972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04920" y="34290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388620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80880" y="4191120"/>
            <a:ext cx="3200400" cy="2361960"/>
            <a:chOff x="380880" y="4191120"/>
            <a:chExt cx="3200400" cy="2361960"/>
          </a:xfrm>
        </p:grpSpPr>
        <p:sp>
          <p:nvSpPr>
            <p:cNvPr id="270" name=""/>
            <p:cNvSpPr/>
            <p:nvPr/>
          </p:nvSpPr>
          <p:spPr>
            <a:xfrm>
              <a:off x="380880" y="51814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880" y="56386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880" y="60958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65530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880" y="472428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000" y="4343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9920" y="419112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44200" y="419112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1943280" y="3429000"/>
          <a:ext cx="109044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3280" y="3429000"/>
                    <a:ext cx="10904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884240" y="3886200"/>
          <a:ext cx="116856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4240" y="3886200"/>
                    <a:ext cx="11685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380880" y="46483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51055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556272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601992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35000" y="4724280"/>
          <a:ext cx="154800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35000" y="4724280"/>
                    <a:ext cx="1548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577960" y="4800600"/>
          <a:ext cx="573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48006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006560" y="5181480"/>
          <a:ext cx="160632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6560" y="5181480"/>
                    <a:ext cx="1606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590920" y="525780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25780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020600" y="5638680"/>
          <a:ext cx="15782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20600" y="5638680"/>
                    <a:ext cx="1578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77960" y="571500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71500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928800" y="6095880"/>
          <a:ext cx="17604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28800" y="6095880"/>
                    <a:ext cx="1760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577960" y="6172200"/>
          <a:ext cx="573120" cy="380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617220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2" name=""/>
          <p:cNvGrpSpPr/>
          <p:nvPr/>
        </p:nvGrpSpPr>
        <p:grpSpPr>
          <a:xfrm>
            <a:off x="4648320" y="3505320"/>
            <a:ext cx="2743200" cy="2743200"/>
            <a:chOff x="4648320" y="3505320"/>
            <a:chExt cx="2743200" cy="2743200"/>
          </a:xfrm>
        </p:grpSpPr>
        <p:grpSp>
          <p:nvGrpSpPr>
            <p:cNvPr id="303" name=""/>
            <p:cNvGrpSpPr/>
            <p:nvPr/>
          </p:nvGrpSpPr>
          <p:grpSpPr>
            <a:xfrm>
              <a:off x="4648320" y="3505320"/>
              <a:ext cx="2743200" cy="2743200"/>
              <a:chOff x="4648320" y="3505320"/>
              <a:chExt cx="2743200" cy="2743200"/>
            </a:xfrm>
          </p:grpSpPr>
          <p:sp>
            <p:nvSpPr>
              <p:cNvPr id="304" name=""/>
              <p:cNvSpPr/>
              <p:nvPr/>
            </p:nvSpPr>
            <p:spPr>
              <a:xfrm>
                <a:off x="4648320" y="62485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5943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64832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8320" y="53341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48320" y="50292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4832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8320" y="44197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48320" y="41148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4832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48320" y="350532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483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532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81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627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676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725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771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8204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8696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1520" y="350532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419720" y="3276720"/>
            <a:ext cx="3200400" cy="3200400"/>
            <a:chOff x="4419720" y="3276720"/>
            <a:chExt cx="3200400" cy="3200400"/>
          </a:xfrm>
        </p:grpSpPr>
        <p:sp>
          <p:nvSpPr>
            <p:cNvPr id="325" name=""/>
            <p:cNvSpPr/>
            <p:nvPr/>
          </p:nvSpPr>
          <p:spPr>
            <a:xfrm flipV="1">
              <a:off x="4952880" y="32767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9720" y="594360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181480" y="5867280"/>
            <a:ext cx="15264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86400" y="556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182880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ll numbers greater than or equal to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 rot="10800000">
            <a:off x="5258160" y="502848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2438280" y="1143000"/>
          <a:ext cx="45720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4572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30120" y="2209680"/>
          <a:ext cx="276228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120" y="2209680"/>
                    <a:ext cx="27622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325440" y="28954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4040" y="33526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0880" y="3886200"/>
            <a:ext cx="3200400" cy="2361960"/>
            <a:chOff x="380880" y="3886200"/>
            <a:chExt cx="3200400" cy="2361960"/>
          </a:xfrm>
        </p:grpSpPr>
        <p:sp>
          <p:nvSpPr>
            <p:cNvPr id="342" name=""/>
            <p:cNvSpPr/>
            <p:nvPr/>
          </p:nvSpPr>
          <p:spPr>
            <a:xfrm>
              <a:off x="380880" y="48765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53337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880" y="57909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880" y="62481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0880" y="44193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5000" y="40384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9920" y="388620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44200" y="388620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0" name=""/>
          <p:cNvGraphicFramePr/>
          <p:nvPr/>
        </p:nvGraphicFramePr>
        <p:xfrm>
          <a:off x="1905120" y="2895480"/>
          <a:ext cx="142056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895480"/>
                    <a:ext cx="1420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905120" y="3352680"/>
          <a:ext cx="116820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352680"/>
                    <a:ext cx="1168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04920" y="434340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48006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52578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715000"/>
            <a:ext cx="6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914400" y="4419720"/>
          <a:ext cx="1790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419720"/>
                    <a:ext cx="1790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577960" y="4495680"/>
          <a:ext cx="573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44956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1006560" y="4876920"/>
          <a:ext cx="160632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6560" y="4876920"/>
                    <a:ext cx="1606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590920" y="495288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495288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1020600" y="5334120"/>
          <a:ext cx="157824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20600" y="5334120"/>
                    <a:ext cx="1578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577960" y="541008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4100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019160" y="5791320"/>
          <a:ext cx="157968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19160" y="5791320"/>
                    <a:ext cx="1579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577960" y="5867280"/>
          <a:ext cx="573120" cy="381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5867280"/>
                    <a:ext cx="573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876920" y="2895480"/>
            <a:ext cx="2743200" cy="2743200"/>
            <a:chOff x="4876920" y="2895480"/>
            <a:chExt cx="2743200" cy="2743200"/>
          </a:xfrm>
        </p:grpSpPr>
        <p:grpSp>
          <p:nvGrpSpPr>
            <p:cNvPr id="375" name=""/>
            <p:cNvGrpSpPr/>
            <p:nvPr/>
          </p:nvGrpSpPr>
          <p:grpSpPr>
            <a:xfrm>
              <a:off x="4876920" y="2895480"/>
              <a:ext cx="2743200" cy="2743200"/>
              <a:chOff x="4876920" y="2895480"/>
              <a:chExt cx="2743200" cy="2743200"/>
            </a:xfrm>
          </p:grpSpPr>
          <p:sp>
            <p:nvSpPr>
              <p:cNvPr id="376" name=""/>
              <p:cNvSpPr/>
              <p:nvPr/>
            </p:nvSpPr>
            <p:spPr>
              <a:xfrm>
                <a:off x="487692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6920" y="5333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0288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7692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76920" y="4419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76920" y="41144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7692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76920" y="3504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76920" y="32000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2895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48769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8184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8676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13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624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116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1064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1556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01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48320" y="2666880"/>
            <a:ext cx="3200400" cy="3200400"/>
            <a:chOff x="4648320" y="2666880"/>
            <a:chExt cx="3200400" cy="3200400"/>
          </a:xfrm>
        </p:grpSpPr>
        <p:sp>
          <p:nvSpPr>
            <p:cNvPr id="397" name=""/>
            <p:cNvSpPr/>
            <p:nvPr/>
          </p:nvSpPr>
          <p:spPr>
            <a:xfrm flipV="1">
              <a:off x="5181840" y="26668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8320" y="53341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80060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46483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3434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 rot="10800000">
            <a:off x="4877280" y="441900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438280" y="1143000"/>
          <a:ext cx="457200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45720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268200" y="2209680"/>
          <a:ext cx="288612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200" y="2209680"/>
                    <a:ext cx="28861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325440" y="28954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4040" y="335268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80880" y="3886200"/>
            <a:ext cx="3200400" cy="2361960"/>
            <a:chOff x="380880" y="3886200"/>
            <a:chExt cx="3200400" cy="2361960"/>
          </a:xfrm>
        </p:grpSpPr>
        <p:sp>
          <p:nvSpPr>
            <p:cNvPr id="413" name=""/>
            <p:cNvSpPr/>
            <p:nvPr/>
          </p:nvSpPr>
          <p:spPr>
            <a:xfrm>
              <a:off x="380880" y="48765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80" y="53337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880" y="57909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880" y="62481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0880" y="441936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55000" y="40384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9920" y="388620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44200" y="388620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2030400" y="2895480"/>
          <a:ext cx="1170000" cy="49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0400" y="2895480"/>
                    <a:ext cx="11700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905120" y="3352680"/>
          <a:ext cx="116820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3352680"/>
                    <a:ext cx="1168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380880" y="434340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48006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525780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571500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74880" y="4419720"/>
          <a:ext cx="16682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419720"/>
                    <a:ext cx="1668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577960" y="4495680"/>
          <a:ext cx="57312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7960" y="44956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988920" y="4876920"/>
          <a:ext cx="1641600" cy="573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88920" y="4876920"/>
                    <a:ext cx="16416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90920" y="4952880"/>
          <a:ext cx="54612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4952880"/>
                    <a:ext cx="54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990720" y="5334120"/>
          <a:ext cx="1638360" cy="573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90720" y="5334120"/>
                    <a:ext cx="1638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2577960" y="5410080"/>
          <a:ext cx="573120" cy="360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77960" y="541008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912960" y="5791320"/>
          <a:ext cx="179208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2960" y="5791320"/>
                    <a:ext cx="1792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2577960" y="5867280"/>
          <a:ext cx="573120" cy="381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77960" y="5867280"/>
                    <a:ext cx="573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5" name=""/>
          <p:cNvGrpSpPr/>
          <p:nvPr/>
        </p:nvGrpSpPr>
        <p:grpSpPr>
          <a:xfrm>
            <a:off x="4038480" y="2895480"/>
            <a:ext cx="2743200" cy="2743200"/>
            <a:chOff x="4038480" y="2895480"/>
            <a:chExt cx="2743200" cy="2743200"/>
          </a:xfrm>
        </p:grpSpPr>
        <p:grpSp>
          <p:nvGrpSpPr>
            <p:cNvPr id="446" name=""/>
            <p:cNvGrpSpPr/>
            <p:nvPr/>
          </p:nvGrpSpPr>
          <p:grpSpPr>
            <a:xfrm>
              <a:off x="4038480" y="2895480"/>
              <a:ext cx="2743200" cy="2743200"/>
              <a:chOff x="4038480" y="2895480"/>
              <a:chExt cx="2743200" cy="2743200"/>
            </a:xfrm>
          </p:grpSpPr>
          <p:sp>
            <p:nvSpPr>
              <p:cNvPr id="447" name=""/>
              <p:cNvSpPr/>
              <p:nvPr/>
            </p:nvSpPr>
            <p:spPr>
              <a:xfrm>
                <a:off x="403848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38480" y="5333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8480" y="50288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848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38480" y="4419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38480" y="41144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03848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8480" y="3504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38480" y="32000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038480" y="2895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0384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4340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83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528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780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7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72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7220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7712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1680" y="2895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809880" y="2666880"/>
            <a:ext cx="3200400" cy="3200400"/>
            <a:chOff x="3809880" y="2666880"/>
            <a:chExt cx="3200400" cy="3200400"/>
          </a:xfrm>
        </p:grpSpPr>
        <p:sp>
          <p:nvSpPr>
            <p:cNvPr id="468" name=""/>
            <p:cNvSpPr/>
            <p:nvPr/>
          </p:nvSpPr>
          <p:spPr>
            <a:xfrm flipV="1">
              <a:off x="4343400" y="26668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9880" y="533412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48640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46483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29600" y="43434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 rot="10800000">
            <a:off x="5563080" y="441900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3880" y="1447920"/>
            <a:ext cx="632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e the Graph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80880" y="1905120"/>
          <a:ext cx="156060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15606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"/>
          <p:cNvGrpSpPr/>
          <p:nvPr/>
        </p:nvGrpSpPr>
        <p:grpSpPr>
          <a:xfrm>
            <a:off x="533520" y="2743200"/>
            <a:ext cx="1143000" cy="2361960"/>
            <a:chOff x="533520" y="2743200"/>
            <a:chExt cx="1143000" cy="236196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3276360"/>
              <a:ext cx="1143000" cy="1828800"/>
              <a:chOff x="533520" y="3276360"/>
              <a:chExt cx="1143000" cy="1828800"/>
            </a:xfrm>
          </p:grpSpPr>
          <p:sp>
            <p:nvSpPr>
              <p:cNvPr id="482" name=""/>
              <p:cNvSpPr/>
              <p:nvPr/>
            </p:nvSpPr>
            <p:spPr>
              <a:xfrm>
                <a:off x="533520" y="37335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41907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46479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51051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3520" y="327636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008360" y="289548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2200" y="2743200"/>
              <a:ext cx="416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274320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33520" y="32004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36576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41148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45720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32004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36576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1148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4572000"/>
            <a:ext cx="38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71800" y="3200400"/>
            <a:ext cx="2743200" cy="2743200"/>
            <a:chOff x="2971800" y="3200400"/>
            <a:chExt cx="2743200" cy="2743200"/>
          </a:xfrm>
        </p:grpSpPr>
        <p:grpSp>
          <p:nvGrpSpPr>
            <p:cNvPr id="499" name=""/>
            <p:cNvGrpSpPr/>
            <p:nvPr/>
          </p:nvGrpSpPr>
          <p:grpSpPr>
            <a:xfrm>
              <a:off x="2971800" y="3200400"/>
              <a:ext cx="2743200" cy="2743200"/>
              <a:chOff x="2971800" y="3200400"/>
              <a:chExt cx="2743200" cy="2743200"/>
            </a:xfrm>
          </p:grpSpPr>
          <p:sp>
            <p:nvSpPr>
              <p:cNvPr id="500" name=""/>
              <p:cNvSpPr/>
              <p:nvPr/>
            </p:nvSpPr>
            <p:spPr>
              <a:xfrm>
                <a:off x="2971800" y="59436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71800" y="5638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71800" y="5333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71800" y="50292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71800" y="4724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971800" y="4419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71800" y="41148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71800" y="3809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71800" y="3504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71800" y="320040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29718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7672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8164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62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9112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9604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0552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1044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5000" y="320040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743200" y="2971800"/>
            <a:ext cx="3200400" cy="3200400"/>
            <a:chOff x="2743200" y="2971800"/>
            <a:chExt cx="3200400" cy="3200400"/>
          </a:xfrm>
        </p:grpSpPr>
        <p:sp>
          <p:nvSpPr>
            <p:cNvPr id="521" name=""/>
            <p:cNvSpPr/>
            <p:nvPr/>
          </p:nvSpPr>
          <p:spPr>
            <a:xfrm flipV="1">
              <a:off x="3276720" y="297180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3200" y="563904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200400" y="55627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525780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4648320"/>
            <a:ext cx="15228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 rot="10800000">
            <a:off x="3277080" y="47235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80880" y="1905120"/>
          <a:ext cx="230688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905120"/>
                    <a:ext cx="230688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 flipV="1" rot="10800000">
            <a:off x="3277080" y="38091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 rot="10800000">
            <a:off x="3277080" y="510480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3505320" y="1905120"/>
          <a:ext cx="22651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1905120"/>
                    <a:ext cx="22651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 flipV="1" rot="10800000">
            <a:off x="4191480" y="47235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 rot="10800000">
            <a:off x="2972160" y="47235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3505320" y="1905120"/>
          <a:ext cx="3006720" cy="77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905120"/>
                    <a:ext cx="30067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 flipV="1" rot="10800000">
            <a:off x="3886560" y="3809160"/>
            <a:ext cx="7162200" cy="182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7" y="6"/>
                </a:moveTo>
                <a:arcTo wR="10800" hR="10800" stAng="-5289408" swAng="5289408"/>
                <a:lnTo>
                  <a:pt x="10800" y="10800"/>
                </a:lnTo>
                <a:close/>
              </a:path>
              <a:path fill="none" w="21600" h="21600">
                <a:moveTo>
                  <a:pt x="11147" y="6"/>
                </a:moveTo>
                <a:arcTo wR="10800" hR="10800" stAng="-5289408" swAng="5289408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384720" y="1905120"/>
          <a:ext cx="3247920" cy="77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84720" y="1905120"/>
                    <a:ext cx="32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41" name=""/>
          <p:cNvCxnSpPr/>
          <p:nvPr/>
        </p:nvCxnSpPr>
        <p:spPr>
          <a:xfrm flipH="1" flipV="1" rot="5400000">
            <a:off x="4381200" y="2628360"/>
            <a:ext cx="1927800" cy="413748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aphicFrame>
        <p:nvGraphicFramePr>
          <p:cNvPr id="542" name=""/>
          <p:cNvGraphicFramePr/>
          <p:nvPr/>
        </p:nvGraphicFramePr>
        <p:xfrm>
          <a:off x="3505320" y="6080040"/>
          <a:ext cx="317016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6080040"/>
                    <a:ext cx="31701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4114800" y="4952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4120" y="31240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1120" y="2590920"/>
            <a:ext cx="2286000" cy="243828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cubicBezTo>
                  <a:pt x="72" y="1256"/>
                  <a:pt x="144" y="976"/>
                  <a:pt x="384" y="720"/>
                </a:cubicBezTo>
                <a:cubicBezTo>
                  <a:pt x="624" y="464"/>
                  <a:pt x="1264" y="120"/>
                  <a:pt x="1440" y="0"/>
                </a:cubicBezTo>
              </a:path>
            </a:pathLst>
          </a:custGeom>
          <a:noFill/>
          <a:ln w="38160">
            <a:solidFill>
              <a:srgbClr val="99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aphing Square-root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17T15:04:08Z</dcterms:modified>
  <cp:revision>60</cp:revision>
  <dc:subject/>
  <dc:title>No Slide Title</dc:title>
</cp:coreProperties>
</file>